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9AA-F913-4647-8D88-5A81901A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F28-C51D-4438-86C0-A2B6EC7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77C-6307-4141-B933-0117A68E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9A7-CF81-424E-8064-E33472DC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C28-92C0-4EDF-B9C3-32C7B40D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4D84-CA63-4334-9590-791AF5BC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9844-9AD6-434F-8C40-C4B97100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5304-5932-42F2-8394-B9565B61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8B95-C7D9-426C-B8C0-4AD2511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DA44-571D-44B2-A7C4-A4A54E75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D808-EAA5-4685-AEAA-EA05915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FC2-4A43-4567-B16C-E1EFBBCA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25D-116C-4188-9EF9-F8F4516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4DD-3623-4CD5-ADF6-679C40A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5FC6-D8D2-453D-BFF5-6393802F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2DFC-D375-42B2-9616-60FE952D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EFB7-27B0-41FA-BD52-F7F9D980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A66-25BA-4F17-926C-7BAB1027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6E2-57C2-4C52-8026-FD35F1F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3E3-AE1E-4CBA-9C53-C518FE6C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94E-859B-4D58-BED9-F3DF28A3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F3A-1CA5-40D1-BF16-1A16961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557-12A5-4853-98A9-8B0AC77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30C-845C-4FF0-8398-E8D9614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535-F832-430D-881B-0F546A95F4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F17-D06D-478E-8034-45F1341A7D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00ff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680" y="762120"/>
            <a:ext cx="747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álogo De Ropa Para Ninos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7400" y="6210360"/>
            <a:ext cx="50292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By: Cadey Capistr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0979000">
            <a:off x="2057040" y="213372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348600">
            <a:off x="3809520" y="1981080"/>
            <a:ext cx="189576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95280" y="762120"/>
            <a:ext cx="5791320" cy="88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rnd" w="9360">
                  <a:solidFill>
                    <a:srgbClr val="00ff00"/>
                  </a:solidFill>
                  <a:custDash>
                    <a:ds d="100000" sp="1000"/>
                  </a:custDash>
                  <a:miter/>
                </a:ln>
                <a:solidFill>
                  <a:srgbClr val="00ffff"/>
                </a:solidFill>
                <a:latin typeface="Arial Black"/>
              </a:rPr>
              <a:t>El Invierno</a:t>
            </a:r>
            <a:endParaRPr b="0" lang="en-US" sz="9600" spc="1" strike="noStrike">
              <a:ln cap="rnd" w="9360">
                <a:solidFill>
                  <a:srgbClr val="00ff00"/>
                </a:solidFill>
                <a:custDash>
                  <a:ds d="100000" sp="1000"/>
                </a:custDash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334200">
            <a:off x="6477120" y="2057040"/>
            <a:ext cx="231768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22440" y="3084480"/>
            <a:ext cx="30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3480" y="3008160"/>
            <a:ext cx="413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27432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ar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ón Lleva l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Chaqueta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y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los blue jean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 y 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Arial"/>
              </a:rPr>
              <a:t>zapatillas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141300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cf84a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676520" y="838080"/>
            <a:ext cx="5638680" cy="149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El Veran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 rot="21091800">
            <a:off x="228600" y="2209320"/>
            <a:ext cx="219240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27560" y="342900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25000">
            <a:off x="2733480" y="3962160"/>
            <a:ext cx="64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DALINA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leva un vestido blanco y una flor en el p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55040" y="152280"/>
            <a:ext cx="1488960" cy="1486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67ff"/>
            </a:gs>
            <a:gs pos="50000">
              <a:srgbClr val="9933ff"/>
            </a:gs>
            <a:gs pos="100000">
              <a:srgbClr val="676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277040" cy="1438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La primavera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64628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280200">
            <a:off x="5638320" y="1981080"/>
            <a:ext cx="3229200" cy="2764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08040" y="304812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920" y="228528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ALEJANDRA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lleva un </a:t>
            </a:r>
            <a:r>
              <a:rPr b="0" lang="en-US" sz="1800" spc="-1" strike="noStrike" u="sng">
                <a:solidFill>
                  <a:srgbClr val="ff66ff"/>
                </a:solidFill>
                <a:uFillTx/>
                <a:latin typeface="Arial"/>
              </a:rPr>
              <a:t>la bata</a:t>
            </a: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 largo y 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120" y="25909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84a"/>
                </a:solidFill>
                <a:latin typeface="Arial"/>
              </a:rPr>
              <a:t>CATALINA</a:t>
            </a:r>
            <a:r>
              <a:rPr b="0" lang="en-US" sz="1800" spc="-1" strike="noStrike">
                <a:solidFill>
                  <a:srgbClr val="fcf84a"/>
                </a:solidFill>
                <a:latin typeface="Arial"/>
              </a:rPr>
              <a:t>  lleva un vestido corto y </a:t>
            </a:r>
            <a:r>
              <a:rPr b="0" lang="en-US" sz="1800" spc="-1" strike="noStrike" u="sng">
                <a:solidFill>
                  <a:srgbClr val="fcf84a"/>
                </a:solidFill>
                <a:uFillTx/>
                <a:latin typeface="Arial"/>
              </a:rPr>
              <a:t>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440" y="28954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ABRIELA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la blusa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 y una falda y zap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66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762120"/>
            <a:ext cx="5686560" cy="1724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rnd" w="9360">
                  <a:solidFill>
                    <a:srgbClr val="ffcc99"/>
                  </a:solidFill>
                  <a:custDash>
                    <a:ds d="100000" sp="1000"/>
                  </a:custDash>
                  <a:miter/>
                </a:ln>
                <a:solidFill>
                  <a:srgbClr val="ffcc99"/>
                </a:solidFill>
                <a:latin typeface="Arial Black"/>
              </a:rPr>
              <a:t>El Otono</a:t>
            </a:r>
            <a:endParaRPr b="0" lang="en-US" sz="9600" spc="1" strike="noStrike">
              <a:ln cap="rnd" w="9360">
                <a:solidFill>
                  <a:srgbClr val="ffcc99"/>
                </a:solidFill>
                <a:custDash>
                  <a:ds d="100000" sp="1000"/>
                </a:custDash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21213000">
            <a:off x="5790960" y="2057400"/>
            <a:ext cx="2608200" cy="271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505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ZABELLE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lleva 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camisa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y 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una falda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y pantlones largos y zapatillas y </a:t>
            </a:r>
            <a:r>
              <a:rPr b="0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la camis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635400">
            <a:off x="152280" y="228600"/>
            <a:ext cx="997200" cy="110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523880" y="685800"/>
            <a:ext cx="6201000" cy="1438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ccesorios</a:t>
            </a:r>
            <a:endParaRPr b="0" lang="en-US" sz="8000" spc="1" strike="noStrike">
              <a:ln w="9360">
                <a:solidFill>
                  <a:srgbClr val="ff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452600" cy="1452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os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r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1990800" cy="1457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6440" y="34290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176480" cy="167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50120" y="34290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El Bo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057400" cy="146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5140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La Buf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04920" y="4114800"/>
            <a:ext cx="1269720" cy="1733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7880" y="57657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Los Calce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057400" y="42670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058120" y="59436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l Cintur</a:t>
            </a:r>
            <a:r>
              <a:rPr b="0" lang="el-GR" sz="2000" spc="-1" strike="noStrike">
                <a:solidFill>
                  <a:srgbClr val="3333ff"/>
                </a:solidFill>
                <a:latin typeface="Arial"/>
                <a:ea typeface="Arial"/>
              </a:rPr>
              <a:t>ό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038480" y="4724280"/>
            <a:ext cx="1981440" cy="1032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37400" y="58672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Las Gafas De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1752480" cy="1203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3760" y="579132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Los espeju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00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52480" y="762120"/>
            <a:ext cx="5686560" cy="108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9933ff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 Black"/>
              </a:rPr>
              <a:t>Ropa Adicional</a:t>
            </a:r>
            <a:endParaRPr b="0" lang="en-US" sz="1800" spc="1" strike="noStrike">
              <a:ln cap="rnd" w="9360">
                <a:solidFill>
                  <a:srgbClr val="9933ff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48240" y="2195640"/>
            <a:ext cx="1847520" cy="2466720"/>
            <a:chOff x="3648240" y="2195640"/>
            <a:chExt cx="1847520" cy="2466720"/>
          </a:xfrm>
        </p:grpSpPr>
        <p:sp>
          <p:nvSpPr>
            <p:cNvPr id="141" name=""/>
            <p:cNvSpPr txBox="1"/>
            <p:nvPr/>
          </p:nvSpPr>
          <p:spPr>
            <a:xfrm>
              <a:off x="3648240" y="2195640"/>
              <a:ext cx="1847520" cy="246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1280800">
            <a:off x="228240" y="137124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6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8862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El Traje De B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ñ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83600">
            <a:off x="2971440" y="1219320"/>
            <a:ext cx="154152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8098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La Bata De Ba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  <a:ea typeface="Arial"/>
              </a:rPr>
              <a:t>ñ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760" y="3809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Arial"/>
              </a:rPr>
              <a:t>los pij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rot="192000">
            <a:off x="5333760" y="1142640"/>
            <a:ext cx="1773000" cy="2724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21406800">
            <a:off x="380880" y="4343040"/>
            <a:ext cx="1673280" cy="2514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 rot="412800">
            <a:off x="2895120" y="44953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 rot="21352800">
            <a:off x="5638320" y="4266720"/>
            <a:ext cx="1952640" cy="23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1368400">
            <a:off x="685800" y="2286000"/>
            <a:ext cx="76201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álogo De Ropa Para Ninos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7:57Z</dcterms:created>
  <dc:creator>capistrancad</dc:creator>
  <dc:description/>
  <dc:language>en-US</dc:language>
  <cp:lastModifiedBy>capistrancad</cp:lastModifiedBy>
  <dcterms:modified xsi:type="dcterms:W3CDTF">2011-12-14T16:40:52Z</dcterms:modified>
  <cp:revision>8</cp:revision>
  <dc:subject/>
  <dc:title> </dc:title>
</cp:coreProperties>
</file>